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AF34F-4038-443E-BD39-43538A845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10A39-BD75-472E-B07A-DE91E41C7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33E97-555E-4F04-AAA9-65C11670E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D0C05-BDBD-47E3-9733-AB8DC15CB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8C964-1F42-4303-80F3-3FFBA0AD3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71CEB-38E9-4150-BE8C-3D7E1D9E4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011F2-6BF2-4C62-A9D7-00BAD9372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D771C-9981-4C90-A242-9E5D43C21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32BE2-7699-43F7-BB78-92C78BF6F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9238A-F5BA-4510-91FD-99F236CAA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DD2C9-B611-44A0-A7BE-6888202B1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87ED4-EE2A-46D5-BF6B-A17EE4BE2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FD23C-0EF9-41CF-B080-EBB95C6C8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E4595-5C03-43D1-8ED0-33E249A63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22997-5FCC-4AB3-B659-25D16E44B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63713-2072-4FED-B6F6-18F911C6C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9B340-9CBF-4D31-8BAD-8DECB3F91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876E6-40D6-46B7-8B4E-4E80089E9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5FB99-854F-4D20-8BC9-941167EC1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89881-4F2B-49C5-B271-F78269E7C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6B8ED-B7E4-43B2-AA09-27B3A0AD1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483B0-6D31-40B1-AB9E-3BC9BBEB9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F9075-0563-4BC4-A6C7-19C5172C9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BDEC0-8F08-48A4-A835-215A56908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3645A-7C34-42C1-BFA1-E3965AD12C3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D4AEE-9EF7-4418-BF03-B8FB572A3FA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5.jpeg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Blackadder ITC"/>
              </a:rPr>
              <a:t>La clase de espanol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lackadder ITC"/>
              </a:rPr>
              <a:t>Magdale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lackadder ITC"/>
              </a:rPr>
              <a:t>La famili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lackadder ITC"/>
              </a:rPr>
              <a:t>La mam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lackadder ITC"/>
              </a:rPr>
              <a:t>El   pap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lackadder ITC"/>
              </a:rPr>
              <a:t>La  ni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lackadder ITC"/>
              </a:rPr>
              <a:t>El   nin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lackadder ITC"/>
              </a:rPr>
              <a:t>La abuali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lackadder ITC"/>
              </a:rPr>
              <a:t>El   abuali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lackadder ITC"/>
              </a:rPr>
              <a:t>La  t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lackadder ITC"/>
              </a:rPr>
              <a:t>El   ti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9"/>
          <a:stretch/>
        </p:blipFill>
        <p:spPr>
          <a:xfrm>
            <a:off x="963720" y="1600200"/>
            <a:ext cx="30258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lackadder ITC"/>
              </a:rPr>
              <a:t>Los  trabajo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lackadder ITC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5638680" y="1676520"/>
            <a:ext cx="259092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8T18:26:32Z</dcterms:created>
  <dc:creator>WSFCS Workstation</dc:creator>
  <dc:description/>
  <dc:language>en-US</dc:language>
  <cp:lastModifiedBy>WSFCS Workstation</cp:lastModifiedBy>
  <dcterms:modified xsi:type="dcterms:W3CDTF">2010-04-28T18:53:51Z</dcterms:modified>
  <cp:revision>3</cp:revision>
  <dc:subject/>
  <dc:title>La clase de espanol</dc:title>
</cp:coreProperties>
</file>